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B742-4142-4CC9-AAA6-0F8CB98B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24D2-2589-40DA-994D-122E39CC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5858-683D-4D7F-B195-9FE7147A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47D1-0BEE-447B-BAA3-ED37ED6A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8749-1497-4DEF-B974-06D9BDCC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4BED-439D-4B6F-8427-EF42B450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9999-D69C-4A1A-97BC-8ED004B7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4C15-E9A3-4854-8A9C-1D70FAB6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E225-5306-40D4-B020-36369B31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6BEE-675A-4E4B-BE01-29F8035E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34EE-02BF-4982-9323-8533BB2F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076E-2436-4D7B-811C-FF64534E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AF48-09C1-4AF4-99EC-CAE45487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9A2E-C80E-43E5-A1D6-FFD9DD08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89EC-2E30-479D-8A9C-2AC1AE9B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EB13-5C19-4FC6-BB0B-B14E35230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79000" y="220932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9036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79000" y="4040280"/>
            <a:ext cx="223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937B-2B99-4918-B08A-A77066B1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D3DF-F7BE-4857-8727-71BF9DCB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CA30-BEF0-4CB0-B7CF-7B059558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B9BB-A115-4600-B639-B949901A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990360"/>
            <a:ext cx="67820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FF52-115C-4C98-B285-7C5838A4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B2E7-F9F5-49A5-8E81-298A4E29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43560" y="404028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8293-0A87-4D28-97A0-589DFB66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43560" y="2209320"/>
            <a:ext cx="338364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0360" y="4040280"/>
            <a:ext cx="69339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AB0B-9729-4954-86A7-33DDD502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0844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55196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1995480" indent="-221400">
              <a:spcBef>
                <a:spcPts val="700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F9FF-DA3A-46D5-862B-3AEAB3BEB655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8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F663-BA30-43EE-88CD-54478C43E276}" type="slidenum">
              <a:rPr b="0" lang="en-US" sz="1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88640" y="1371240"/>
            <a:ext cx="6705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onstitution Exam Review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aduation this Ex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many justices are on the Supreme Court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nominates justices to the Supreme Court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is the governor of your stat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capital (or capital city) of your stat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925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re the two major political parties in the U.S. today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highest court in the U.S.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majority political party in the House of Representatives now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political party of the majority in the Senate now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political party of the president now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is the speaker of the House of Representatives now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925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what month are elections held in the United States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must all males register for the Selective Servic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is the secretary of state now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re "inalienable rights"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re the 3 Qualifications for voting in the United States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925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 two rights that are only for United States citizen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 two of the natural, or inalienable, rights in the Declaration of Independenc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wrote the Declaration of Independenc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was the Declaration of Independence adopted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is called the "Father of Our Country"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is Called the “Father of the </a:t>
            </a:r>
            <a:r>
              <a:rPr b="1" lang="en-US" sz="1800" spc="-1" strike="noStrike">
                <a:solidFill>
                  <a:srgbClr val="000000"/>
                </a:solidFill>
                <a:latin typeface="ヒラギノ角ゴ Pro W3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stitution”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925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was the first President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 one of the writers of the Federalist Paper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o the stars on the U.S. flag represent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o the stripes on the U.S. flag represent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 “Flag Code” isn’t a law what is it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was the 2nd. President of the United States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was the purpose of the Declaration of Independenc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does the real political authority of government belong to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ype of government has elected representatives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does the term Federalism mean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oes the term Democracy mea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800100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as the first form of Government in the United State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was one of the weaknesses of the Articles of Confederation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law established the process for admitting new stat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 did the Constitutional Convention meet in 1787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event convinced many to scrap the Articles and try something new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wrote the “Federalist Papers” supporting the new Constitution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was picked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lead the Constitutional convention in 1787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800100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s listed in the Preamble of the Constitution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Branch of Government makes the law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branch of Government enforces the law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branch of Government interprets the law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long does a member of the House of Representatives serv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many members of the House of Representatives are ther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many members of the Senate are there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800100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is the presiding officer of the Senat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s the leader of the House of Representatives  called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selects the “Speaker of the House”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does the term “Impeach” mean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actually Impeaches the President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2 types of Vetoes are available for the President to Us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800100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3 types of Vetoes can the Governor of Illinois Us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re must all “Revenue” bills start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does a writ of “Habeas Corpus” prevent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does the term “Habeas Corpus” mean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re the qualifications for Vice-President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can Declare War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s the group of Presidential Advisors called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73640" y="2362320"/>
            <a:ext cx="944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 one important idea found in the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laration of Independ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3124080"/>
            <a:ext cx="641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supreme law of the lan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3657600"/>
            <a:ext cx="5639040" cy="8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oes the Constitution d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441972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actually elects the Presid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04840" y="1905120"/>
            <a:ext cx="69343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old must you be to be elected Governor of Illinoi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long are Federal Judges appointed to serve in offic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group approves all Presidential appointment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group acts as the jury in all impeachment trials concerning the President of the United State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branch of the U.S. government “declares war?”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acts as the judge in all Presidential impeachment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6782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04840" y="1676160"/>
            <a:ext cx="6934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many members of the Legislative Branch are there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group must approve all treaties entered into by the United State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other office does the President of the Senate also hold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s the official purpose of the Censu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many members of the Illinois House are ther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many members are there in the Illinois Senat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old must you be to be elected Governor of Illinoi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6782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04840" y="1676160"/>
            <a:ext cx="6934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long are Federal Judges appointed to serve in offic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s the capital of the State of Illinoi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group  “Impeaches” the President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is the Chief Executive of Illinois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two U.S. Presidents that have been impeache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many stars are there on America’s flag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must sign a bill into law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1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6782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04840" y="1676160"/>
            <a:ext cx="6934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is the President of the Senate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“Clause” in the U.S. Constitution, allows the Legislative branch to mak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“Any Laws Deemed Necessary and Proper?”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becomes President next,  if both the President and Vice-president di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many states are there in the United States of America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was elected the first President of the United States?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o was the first Vice-President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6782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04840" y="1676160"/>
            <a:ext cx="6934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long are the terms of members of the House of Representative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many members of the House of Representatives are elected every 2 years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did the 26th Amendment do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group gets the right to vote with the 19th Amendment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did the 18th Amendment Prohibit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o is Commander-in Chief of the United States military forces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 the two types of Veto can the President of the United States use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1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6782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4840" y="1676160"/>
            <a:ext cx="6934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many members of the U.S. House of Representatives are there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long does a person serve on the Supreme Court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does the word “Impeach” mean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right is protect by the 6th Amendment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issue was addressed by the 13th Amendment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group in American society becomes citizens with the passage of the 14 Amendment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many members are there on the U.S. Supreme Court today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6782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04840" y="1676160"/>
            <a:ext cx="6934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 the Vice-President of the United States today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are the 3 requirements to vote in an election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many members of the U.S. Senate are there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are the first 10 Amendments to the U.S. Constitution called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right is protected by 2nd Amendment to the Constitution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does the term “Lame Duck” mean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6782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04840" y="1676160"/>
            <a:ext cx="6934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are the elections that are held to select the slate of candidates in the November General elections called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 the two Houses of Congress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are some of the responsibilities of being a U.S. citizen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Supreme Court case gave the Supreme Court the power to interpret the laws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Supreme Court Case ended legal segregation in the United States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6782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4840" y="1676160"/>
            <a:ext cx="6934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 the three branches of the U. S. Government identified in the Constitution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o is considered the father of the U.S. Constitution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are the three requirements to be President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part of the Constitution explains it’s purpose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branch of the U. S. Government makes the laws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are the powers of the constitution that are listed in it called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are the three requirements to be Vice-President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6782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04840" y="1676160"/>
            <a:ext cx="6934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are examples of the Implied Powers of the U.S. Government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branch of the U. S. Government interprets the laws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old do you have to be to vote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are powers that both the state and federal government hold called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system was established by the Constitution to ensure that no branch of the government got to powerful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at is the main check on the power of the Legislative branch that can be imposed by the Executive branch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1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04840" y="31384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oes "We the People" mean in the Constit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962520"/>
            <a:ext cx="617220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o we call changes to the Constitu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3886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487692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an amend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6782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04840" y="1676160"/>
            <a:ext cx="6934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st the three requirements to be a member of the U.S. House of Representatives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at branch of the Federal Government has the power to appoint judges to the Judicial branch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at branch of the U. S. Government enforces the laws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at are the three requirements to be a U.S. Senator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o is the Chief Executive of the U. S. Government?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at is the length of the term for U.S. Senators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at Amendment to the Constitution limits the length of how long a person can serve as President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90400" y="2773440"/>
            <a:ext cx="7963200" cy="10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o we call the first 10 amendments to the Constitu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342900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 one right or freedom from the First Amend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04840" y="4343400"/>
            <a:ext cx="693432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many amendments does the Constitution h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66680" y="495288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id the Declaration of Independence d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19320" y="2362320"/>
            <a:ext cx="606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oes freedom of religion me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0800" y="3032280"/>
            <a:ext cx="640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ype of economic system does the U.S. h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3040" y="3733920"/>
            <a:ext cx="70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the three branches or parts of the governmen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42670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is in charge of the executive branc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4400" y="1905120"/>
            <a:ext cx="67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the two parts of the United States Congres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514600"/>
            <a:ext cx="561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many United States senators are the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92400" y="3138480"/>
            <a:ext cx="563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elect a U.S. senator for how many yea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15720" y="3657600"/>
            <a:ext cx="465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 your state's two U.S. senator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39400" y="4267080"/>
            <a:ext cx="597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many U.S. senators does each state h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9080" y="5029200"/>
            <a:ext cx="78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ouse of Representatives has how many voting memb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62960" y="1981080"/>
            <a:ext cx="641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elect a U.S. representative for how many yea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79320" y="2514600"/>
            <a:ext cx="737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decides each state's number of U.S. representativ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2760" y="3032280"/>
            <a:ext cx="52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elect a president for how many yea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35812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old must a president b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487692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is the vice president n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419112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is the president n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837720"/>
            <a:ext cx="6782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74674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 president can no longer serve, who becomes president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becomes president if both the president and the vice president can no longer serv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is the Commander-in-Chief of the military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many full terms can a president serve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signs bills to become law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19280" y="48960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990360"/>
            <a:ext cx="67820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nstitution Review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a veto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does the president's Cabinet do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 two Cabinet-level position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Cabinet-level agency advises the president on foreign policy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does the judicial branch do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confirms Supreme Court justices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0:23:17Z</dcterms:created>
  <dc:creator>Buffalo Grove High School</dc:creator>
  <dc:description/>
  <dc:language>en-US</dc:language>
  <cp:lastModifiedBy>Buffalo Grove High School</cp:lastModifiedBy>
  <dcterms:modified xsi:type="dcterms:W3CDTF">2007-10-03T11:55:10Z</dcterms:modified>
  <cp:revision>2</cp:revision>
  <dc:subject/>
  <dc:title>Constitution Exam Review</dc:title>
</cp:coreProperties>
</file>